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4B1-B53A-4AD9-89F8-4740E692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025-D035-450A-9174-25ED06B6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0B2-C655-4D4C-877A-BD5F7EC0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76DA-8E87-4C65-8D49-DC20BE3F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0ED-DD8F-4A0B-9E91-BF839C9E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353-D539-46BF-868F-6A518CC9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502B-F8F0-4757-BE35-69B13C77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6D5E-1B19-4365-B371-1A2AF7E2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14B-EFE7-479C-AD8E-31F5D2FE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704-86E3-41A0-ACAA-A7A5DA77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01E-1AD3-4401-BD9B-C348F3D8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A4E-D913-495A-B562-7046E10E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C26C-938E-4B90-8191-969D3FB3F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Оружейная палата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чияева Джамиля Гомалаевна, средняя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3"/>
          <p:cNvSpPr txBox="1"/>
          <p:nvPr/>
        </p:nvSpPr>
        <p:spPr>
          <a:xfrm>
            <a:off x="539640" y="1700280"/>
            <a:ext cx="8062920" cy="2332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ужейная палат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сковского Кремля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716360" y="593892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очияева Джамиля Гомалаевна, средня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Оружейная палата12"/>
          <p:cNvPicPr/>
          <p:nvPr/>
        </p:nvPicPr>
        <p:blipFill>
          <a:blip r:embed="rId1"/>
          <a:stretch/>
        </p:blipFill>
        <p:spPr>
          <a:xfrm>
            <a:off x="395280" y="42840"/>
            <a:ext cx="8604360" cy="6815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Оружейная палата76"/>
          <p:cNvPicPr/>
          <p:nvPr/>
        </p:nvPicPr>
        <p:blipFill>
          <a:blip r:embed="rId2"/>
          <a:stretch/>
        </p:blipFill>
        <p:spPr>
          <a:xfrm>
            <a:off x="0" y="565200"/>
            <a:ext cx="9144000" cy="629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Интерьер (3)"/>
          <p:cNvPicPr/>
          <p:nvPr/>
        </p:nvPicPr>
        <p:blipFill>
          <a:blip r:embed="rId3"/>
          <a:stretch/>
        </p:blipFill>
        <p:spPr>
          <a:xfrm>
            <a:off x="324000" y="152280"/>
            <a:ext cx="8640720" cy="6705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Интерьер (4)"/>
          <p:cNvPicPr/>
          <p:nvPr/>
        </p:nvPicPr>
        <p:blipFill>
          <a:blip r:embed="rId4"/>
          <a:stretch/>
        </p:blipFill>
        <p:spPr>
          <a:xfrm>
            <a:off x="0" y="185760"/>
            <a:ext cx="9144000" cy="6672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Интерьер"/>
          <p:cNvPicPr/>
          <p:nvPr/>
        </p:nvPicPr>
        <p:blipFill>
          <a:blip r:embed="rId6"/>
          <a:stretch/>
        </p:blipFill>
        <p:spPr>
          <a:xfrm>
            <a:off x="250920" y="0"/>
            <a:ext cx="51433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Интерьер"/>
          <p:cNvPicPr/>
          <p:nvPr/>
        </p:nvPicPr>
        <p:blipFill>
          <a:blip r:embed="rId7"/>
          <a:stretch/>
        </p:blipFill>
        <p:spPr>
          <a:xfrm>
            <a:off x="324000" y="189000"/>
            <a:ext cx="8604000" cy="645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икона, оруж"/>
          <p:cNvPicPr/>
          <p:nvPr/>
        </p:nvPicPr>
        <p:blipFill>
          <a:blip r:embed="rId8"/>
          <a:stretch/>
        </p:blipFill>
        <p:spPr>
          <a:xfrm>
            <a:off x="324000" y="0"/>
            <a:ext cx="51624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портрет Алекс"/>
          <p:cNvPicPr/>
          <p:nvPr/>
        </p:nvPicPr>
        <p:blipFill>
          <a:blip r:embed="rId9"/>
          <a:stretch/>
        </p:blipFill>
        <p:spPr>
          <a:xfrm>
            <a:off x="3132000" y="0"/>
            <a:ext cx="49374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Интерьер"/>
          <p:cNvPicPr/>
          <p:nvPr/>
        </p:nvPicPr>
        <p:blipFill>
          <a:blip r:embed="rId10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конная упряжь"/>
          <p:cNvPicPr/>
          <p:nvPr/>
        </p:nvPicPr>
        <p:blipFill>
          <a:blip r:embed="rId11"/>
          <a:stretch/>
        </p:blipFill>
        <p:spPr>
          <a:xfrm>
            <a:off x="0" y="404640"/>
            <a:ext cx="9144000" cy="621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Одежда (2)"/>
          <p:cNvPicPr/>
          <p:nvPr/>
        </p:nvPicPr>
        <p:blipFill>
          <a:blip r:embed="rId12"/>
          <a:stretch/>
        </p:blipFill>
        <p:spPr>
          <a:xfrm>
            <a:off x="250920" y="-25560"/>
            <a:ext cx="8604000" cy="6883560"/>
          </a:xfrm>
          <a:prstGeom prst="rect">
            <a:avLst/>
          </a:prstGeom>
          <a:ln w="0">
            <a:noFill/>
          </a:ln>
        </p:spPr>
      </p:pic>
      <p:pic>
        <p:nvPicPr>
          <p:cNvPr id="57" name="Аудио.wma" descr=""/>
          <p:cNvPicPr/>
          <p:nvPr/>
        </p:nvPicPr>
        <p:blipFill>
          <a:blip r:embed="rId13"/>
          <a:stretch/>
        </p:blipFill>
        <p:spPr>
          <a:xfrm>
            <a:off x="9144000" y="-6033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58" name="Оружейная палата.wma" descr=""/>
          <p:cNvPicPr/>
          <p:nvPr/>
        </p:nvPicPr>
        <p:blipFill>
          <a:blip r:embed="rId14"/>
          <a:stretch/>
        </p:blipFill>
        <p:spPr>
          <a:xfrm>
            <a:off x="9325080" y="-12240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4908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5719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53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53">
                                  <p:stCondLst>
                                    <p:cond delay="3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40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7" presetSubtype="10">
                                  <p:stCondLst>
                                    <p:cond delay="5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5">
                                  <p:stCondLst>
                                    <p:cond delay="6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6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7" presetSubtype="10">
                                  <p:stCondLst>
                                    <p:cond delay="7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7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7" presetSubtype="10">
                                  <p:stCondLst>
                                    <p:cond delay="8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8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9">
                                  <p:stCondLst>
                                    <p:cond delay="8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9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9">
                                  <p:stCondLst>
                                    <p:cond delay="9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32">
                                  <p:stCondLst>
                                    <p:cond delay="98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8" presetSubtype="16">
                                  <p:stCondLst>
                                    <p:cond delay="11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32">
                                  <p:stCondLst>
                                    <p:cond delay="11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8" presetSubtype="16">
                                  <p:stCondLst>
                                    <p:cond delay="13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32">
                                  <p:stCondLst>
                                    <p:cond delay="13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3:21:11Z</dcterms:created>
  <dc:creator>Джамиля</dc:creator>
  <dc:description/>
  <dc:language>en-US</dc:language>
  <cp:lastModifiedBy>Олег</cp:lastModifiedBy>
  <dcterms:modified xsi:type="dcterms:W3CDTF">2012-01-13T18:22:55Z</dcterms:modified>
  <cp:revision>38</cp:revision>
  <dc:subject/>
  <dc:title>Слайд 1</dc:title>
</cp:coreProperties>
</file>